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9BFD-6D61-4414-9129-778CC629BD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517A-28AF-4AD7-84C9-4D3B5BCCB644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5959-4C59-4C54-95A2-BED993BA1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427D-6137-4CB0-91C5-736BF9C2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50CC-D8EE-447B-81F5-BF7C08DBB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4DE7-E239-4EE9-9FD2-5402A097E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E349-5D48-4910-A047-4A6A75E2D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D3CD-BC1F-443B-A309-438923E5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0065-44CA-41EE-B703-D914F489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75E5-916E-42D6-90AD-7CF9E027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DB4AF-7115-4B52-B538-FF52B72D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AA60-E05A-4480-A48E-0BC14662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88C3-E1E6-49D7-85C7-B7BC5ACA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4583-5138-457E-8CC6-DDD218E3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690E-A752-4015-8B5A-E8965717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40B0-6662-4731-80E0-F58C73E4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48E8-E268-4BFE-BEBC-6FFB08DC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6B0FD-E195-4794-8C5B-0606C3995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1124-25B4-4D52-B556-6F97054E7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19093-8060-48E9-8876-FB6C17B6E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89C9F-7510-4A8E-A6AD-44FA22A3D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4CC83-419E-49AF-9BB0-1AB2137C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E1E08-2485-4E4E-BAC2-7254CC1A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7189A-6995-4A1C-B9B4-AD41B1DB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3755-69EC-4BEB-9648-659B8B3E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11FAA-3F53-48B9-A582-A813B88E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44360-49A0-4128-938E-2950D2D6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81985-A666-4E18-B6B5-02306DBE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F7F9A-453E-4CF2-9853-057CCD2C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E1A6A-44A9-429B-B513-E19226DE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86DCC-2E7D-4E78-8A7A-9B13DD198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10F49-F0A9-466D-8062-D5A3D4B35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EB85F-C965-4B64-A3C7-2C866B1B3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2E2A6-993C-44B0-9562-27A7E1ED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57765-97E6-4CE8-96CD-F320A4B1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0462-C2E8-436E-AB26-04DE2A21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6C016-37DF-407D-B89A-0EC36823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F7C8F-47D4-4393-8235-ECAFD7B7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8506E-A5D8-4F4F-8F2F-0B5ABCC1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603C5-22D9-4A8D-8ECB-5B7EECD5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2C254-250C-423D-AEE2-0D8EECA0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58AF9-03AF-4B0F-A13B-F2C99001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DB336-EC11-4AF2-8085-3C3517BA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A0584-5F33-4787-8318-AF23327BC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4BA9E-88D0-4A5B-A520-13A8C2090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13104-C7F6-447A-BFE9-A655A08B3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EB48-A534-45A9-9F16-F797360D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38261-8BBD-4069-93C2-99FF16C7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A3953-1396-4222-840D-1E040E84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1206D-94E5-47C6-A9FD-F93B6E425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BEE4B-D8D0-4D3C-A03A-9A1F4A62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3A74D-D9E6-4166-BF64-B2806D84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FBB91-3C33-4288-B317-5A3E5391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DC125-E08E-4AC6-90C0-E5D3146F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EA29C-0034-4CBD-B068-B7F89450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53460-9BB3-4D0E-A72A-17E2414E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8A936-778B-49D4-8E95-B3BA3F189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2885-B4EB-4916-A077-055CCDBE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01A45-E28F-4125-A7A3-80AE501E8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7105C-A320-4D81-BB45-332BC71BC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92163-ABCE-4E9F-82F4-2ADD9DA8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CE532-437C-480E-A99C-56F54E06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6BE44-9A86-4D6C-A0F7-EF00A0F3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0CFD7-6B07-4D29-A459-A256C3A7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71DA2-55F1-4873-8DFC-C517F219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67C5F-D3D1-496D-B416-F2908A9F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1A3B1-E452-4945-AE14-E3FFF630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8F084-0FBD-4246-92CF-85436579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4D50-C9B2-4927-88C1-A5F10C1F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0B383-E567-4A4C-87CE-15E1922A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424B0-20FF-467A-88B5-F97A69D59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33DFB-9ACD-49F6-9847-FE7C04447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F95A-C79B-4943-9379-1C3DC4F2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E0E0-CA78-4FC7-986D-ED767DF8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294D-4403-4EC6-806F-963A4AFF896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D699-CFA4-45B4-A12A-3A286C9643B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A35A-7ECD-460E-9AE4-13A34FE2A46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8AFA-F24F-492E-82DF-D2B16BC5AF9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8679-9ADA-4CF1-AB8C-7C83CDEA25F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7000"/>
              <a:chOff x="637560" y="534600"/>
              <a:chExt cx="8109000" cy="2970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C3D6-AFBA-45B7-8572-44851826E02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1-2022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474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2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2,7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4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4,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88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4,6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9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5,6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8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5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8,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6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14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6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9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0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0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1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839,74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28720" y="469800"/>
            <a:ext cx="7844760" cy="769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1 год – 485,71 млн.руб. (местный бюджет – 174,73 млн.руб., краевой бюджет – </a:t>
            </a:r>
            <a:r>
              <a:rPr b="1" lang="ru-RU" sz="1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65,08</a:t>
            </a: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лн.руб., федеральный бюджет – 45,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85,1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1 год – 11,0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год – 2,9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28,8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ПЕРЕСЕЛЕНИЕ ГРАЖДАН ИЗ АВАРИЙНОГО ЖИЛИЩНОГО ФОНДА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год – 2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1 год – 18,11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4,9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82680" y="1892160"/>
            <a:ext cx="72900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5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588960" y="122400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(по состоянию на 01.10.2020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 к 2020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7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0,7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1,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9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0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581040"/>
          <a:ext cx="8567640" cy="636264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4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8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 обеспечение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реализацию программ формирования современной городской среды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приобретение спортзала, спортинвентаря, ремонт зданий и благоустройство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оснащение детских школ искусств муз.инструмента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ремонт автомоб.дорог за счет дорожного фонда ПК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получение общего образования в муниципальных школах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1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9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9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горячи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 на выплату педагогам школ за классное руководств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1 ГОД (824,74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1 ГОДУ (395,15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20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1-2023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1ГОДУ (361,7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6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9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5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6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9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8,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4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1 ГОД (839,7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12-15T07:34:40Z</dcterms:modified>
  <cp:revision>260</cp:revision>
  <dc:subject/>
  <dc:title>Структура собственных доходов на 2016 год бюджета Дальнереченского городского округа</dc:title>
</cp:coreProperties>
</file>